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6E8-D7D1-45F7-8E71-44494A7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EF6-3DFE-4F46-B491-84EC2754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16A-3D94-4628-ABAC-C5E56ED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4D8-9EB3-4367-A84C-BB1B87D4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A97-2B42-408A-B120-AB10579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B0D-525E-40F0-B5FC-ABC88A0E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76F-626B-46A0-B95E-D5F3818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196-62E7-4416-B6BE-25FAB1F8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625-5C35-432D-9DA5-551326E6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61D-5D55-4733-B44E-46011F18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A22-E62B-468C-A981-7333D1E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C1A-D28E-4FE2-9414-8F6C43B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A1D-A507-4C2B-9388-96FD044CF13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552-537D-49FD-B01F-314CD8BB15B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343,7,&#24187;&#28783;&#29255; 7" TargetMode="External"/><Relationship Id="rId7" Type="http://schemas.openxmlformats.org/officeDocument/2006/relationships/hyperlink" Target="342,11,&#24187;&#28783;&#29255; 11" TargetMode="External"/><Relationship Id="rId8" Type="http://schemas.openxmlformats.org/officeDocument/2006/relationships/hyperlink" Target="346,13,&#24187;&#28783;&#29255; 13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-1,6,&#24187;&#28783;&#29255; 6" TargetMode="External"/><Relationship Id="rId2" Type="http://schemas.openxmlformats.org/officeDocument/2006/relationships/hyperlink" Target="http://images.google.cn/imgres?imgurl=http://img.redbaby.com.cn/UpFile/Images/Product/Big/2008_2_22_13_59_25_202.jpg&amp;imgrefurl=http://www.redbaby.com.cn/Product/ProductInfo_01_1051502-T_32-800-2275.html&amp;usg=__QeLC-qBbaC50mO7KcF3UARM6mlM=&amp;h=500&amp;w=500&amp;sz=38&amp;hl=zh-CN&amp;start=21&amp;tbnid=atwsq8NQyQdNIM:&amp;tbnh=130&amp;tbnw=130&amp;prev=/images%3Fq%3D%25E7%2589%259B%25E5%25A5%25B6%26ndsp%3D20%26hl%3Dzh-CN%26inlang%3Dzh-CN%26client%3Daff-avalanche%26channel%3Dprefill%26sa%3DN%26start%3D20%26newwindow%3D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n/imgres?imgurl=http://www.chaohoo.net/jksl/UploadFiles_1206/200806/20080629172649707.jpg&amp;imgrefurl=http://www.chaohoo.net/jksl/spyy/jjwq/1383.shtml&amp;usg=__yaBkRthwzbXJkKiFVdIUKzayIF8=&amp;h=670&amp;w=944&amp;sz=113&amp;hl=zh-CN&amp;start=3&amp;tbnid=UGz5cL37DqgbTM:&amp;tbnh=105&amp;tbnw=148&amp;prev=/images%3Fq%3D%25E7%258C%25AA%25E8%2582%2589%26hl%3Dzh-CN%26inlang%3Dzh-CN%26client%3Daff-avalanche%26channel%3Dprefill%26hs%3Dk7q%26newwindow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n/imgres?imgurl=http://health.szonline.net/image/2008/200812/20081229/20081229094949_57538.jpg&amp;imgrefurl=http://health.szonline.net/Channel/content/2008/200812/20081229/121039.html&amp;usg=__nZnKXcxgqTzRIInOycqHMLZMW9k=&amp;h=1024&amp;w=1024&amp;sz=314&amp;hl=zh-CN&amp;start=5&amp;tbnid=OqcazlkXHgVmeM:&amp;tbnh=150&amp;tbnw=150&amp;prev=/images%3Fq%3D%25E9%25B8%25A1%25E8%259B%258B%26hl%3Dzh-CN%26inlang%3Dzh-CN%26client%3Daff-avalanche%26channel%3Dprefill%26hs%3D1nB%26newwindow%3D1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n/imgres?imgurl=http://img2.pconline.com.cn/pconline/0707/24/1064454_image001.jpg&amp;imgrefurl=http://www.pconline.com.cn/pcedu/sj/pm/photoshop/sh/0707/1064454.html&amp;usg=__O1VXeOPu87tBRAQSCRbPtE3B7D0=&amp;h=367&amp;w=488&amp;sz=25&amp;hl=zh-CN&amp;start=6&amp;tbnid=KgMZTemVGm3BtM:&amp;tbnh=98&amp;tbnw=130&amp;prev=/images%3Fq%3D%25E9%25B2%25A4%25E9%25B1%25BC%26hl%3Dzh-CN%26inlang%3Dzh-CN%26client%3Daff-avalanche%26channel%3Dprefill%26newwindow%3D1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n/imgres?imgurl=http://www.gloagri.net.cn/uploadfiles/businessinfoimages/4da395f3-6916-4846-97a0-bf7ef1ba3d99_&#22823;&#35910;.jpg&amp;imgrefurl=http://www.gloagri.net.cn/product/ViewProduct.aspx%3FID%3D3188&amp;usg=__IGjloXnh-yrnRH-oiuB3k9qYWZo=&amp;h=408&amp;w=615&amp;sz=36&amp;hl=zh-CN&amp;start=3&amp;tbnid=7hBfcxUmW0z-CM:&amp;tbnh=90&amp;tbnw=136&amp;prev=/images%3Fq%3D%25E5%25A4%25A7%25E8%25B1%2586%26hl%3Dzh-CN%26inlang%3Dzh-CN%26client%3Daff-avalanche%26channel%3Dprefill%26hs%3Dx9q%26newwindow%3D1" TargetMode="External"/><Relationship Id="rId11" Type="http://schemas.openxmlformats.org/officeDocument/2006/relationships/image" Target="../media/image10.jpeg"/><Relationship Id="rId12" Type="http://schemas.openxmlformats.org/officeDocument/2006/relationships/hyperlink" Target="http://images.google.cn/imgres?imgurl=http://www.cvmachine.com/space/attachments/2007/07/1443_200707261153291.jpg&amp;imgrefurl=http://www.cvmachine.com/space/html/91/n-195091.html&amp;usg=__KaSwLgBPhG9CHkk87qecqzN4pqI=&amp;h=480&amp;w=640&amp;sz=85&amp;hl=zh-CN&amp;start=1&amp;tbnid=-1g7yQdOSx-NwM:&amp;tbnh=103&amp;tbnw=137&amp;prev=/images%3Fq%3D%25E8%258A%25B1%25E7%2594%259F%26hl%3Dzh-CN%26inlang%3Dzh-CN%26client%3Daff-avalanche%26channel%3Dprefill%26hs%3DVVW%26newwindow%3D1" TargetMode="External"/><Relationship Id="rId13" Type="http://schemas.openxmlformats.org/officeDocument/2006/relationships/image" Target="../media/image11.jpeg"/><Relationship Id="rId14" Type="http://schemas.openxmlformats.org/officeDocument/2006/relationships/hyperlink" Target="-1,4,&#24187;&#28783;&#29255; 4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343,6,&#24187;&#28783;&#29255; 6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6,&#24187;&#28783;&#29255; 6" TargetMode="External"/><Relationship Id="rId2" Type="http://schemas.openxmlformats.org/officeDocument/2006/relationships/hyperlink" Target="340,23,&#33889;&#33796;&#31958;  C6H12O6" TargetMode="External"/><Relationship Id="rId3" Type="http://schemas.openxmlformats.org/officeDocument/2006/relationships/hyperlink" Target="http://images.google.cn/imgres?imgurl=http://www.suntechseed.com.tw/MY%2520WEB3/IMAGES/FIG/&#29980;&#29577;&#31859;&#20843;&#29645;.JPG&amp;imgrefurl=http://www.suntechseed.com.tw/MY%2520WEB3/%25E6%2596%25B0%25E8%2581%259E/%25E5%2585%25AB%25E7%258F%258D.htm&amp;usg=__tnVRx3KDFjPNgR1JG1FkU7APjJ4=&amp;h=450&amp;w=600&amp;sz=71&amp;hl=zh-CN&amp;start=2&amp;tbnid=cwAQB004tHmbRM:&amp;tbnh=101&amp;tbnw=135&amp;prev=/images%3Fq%3D%25E7%258E%2589%25E7%25B1%25B3%26hl%3Dzh-CN%26inlang%3Dzh-CN%26client%3Daff-avalanche%26channel%3Dprefill%26hs%3DyPX%26newwindow%3D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n/imgres?imgurl=http://images.39.net/beauty_20070801016.jpg&amp;imgrefurl=http://www.39.net/woman/mlzb/bjyf/259012.html&amp;usg=__1oFqeZQi8JzSBetVL3e_06FKpTA=&amp;h=360&amp;w=360&amp;sz=34&amp;hl=zh-CN&amp;start=3&amp;tbnid=shwhjm358VAOOM:&amp;tbnh=121&amp;tbnw=121&amp;prev=/images%3Fq%3D%25E5%259C%259F%25E8%25B1%2586%26hl%3Dzh-CN%26inlang%3Dzh-CN%26client%3Daff-avalanche%26channel%3Dprefill%26hs%3DClC%26newwindow%3D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n/imgres?imgurl=http://pic.nipic.com/2007-11-07/2007117212358130_2.jpg&amp;imgrefurl=http://www.nipic.com/show/1/55/007ed5f17542b415.html&amp;usg=__zCeNFvtLFFdy310OtX-2CUG7IVQ=&amp;h=727&amp;w=1024&amp;sz=157&amp;hl=zh-CN&amp;start=7&amp;tbnid=NCYloaOAJLqXvM:&amp;tbnh=106&amp;tbnw=150&amp;prev=/images%3Fq%3D%25E7%25B1%25B3%25E9%25A5%25AD%26hl%3Dzh-CN%26inlang%3Dzh-CN%26client%3Daff-avalanche%26channel%3Dprefill%26hs%3DblC%26newwindow%3D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n/imgres?imgurl=http://bbsconsole.people.com.cn/posts/05/08/40/3A/A84426810.jpg&amp;imgrefurl=http://bbs1.people.com.cn/postDetail.do%3FboardId%3D1%26treeView%3D1%26view%3D2%26id%3D84428774&amp;usg=__nEuxE8qFXq0HU_dqG8BnPx0faZ0=&amp;h=267&amp;w=400&amp;sz=37&amp;hl=zh-CN&amp;start=3&amp;tbnid=74hjTBdEBJWeFM:&amp;tbnh=83&amp;tbnw=124&amp;prev=/images%3Fq%3D%25E9%25A6%2592%25E5%25A4%25B4%26hl%3Dzh-CN%26inlang%3Dzh-CN%26client%3Daff-avalanche%26channel%3Dprefill%26hs%3DRRX%26newwindow%3D1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n/imgres?imgurl=http://pic.nipic.com/2008-03-08/200838235135292_2.jpg&amp;imgrefurl=http://www.nipic.com/show/1/57/15c9564c15c481ca.html&amp;usg=__1t6BBdSVMLwZ3xbiNlmCNn8kT2w=&amp;h=908&amp;w=1024&amp;sz=175&amp;hl=zh-CN&amp;start=3&amp;tbnid=KEjKUQ_KbcSBFM:&amp;tbnh=133&amp;tbnw=150&amp;prev=/images%3Fq%3D%25E7%25BA%25A2%25E8%2596%25AF%26hl%3Dzh-CN%26inlang%3Dzh-CN%26client%3Daff-avalanche%26channel%3Dprefill%26hs%3Dm7r%26newwindow%3D1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341,8,&#24187;&#28783;&#29255; 8" TargetMode="External"/><Relationship Id="rId2" Type="http://schemas.openxmlformats.org/officeDocument/2006/relationships/hyperlink" Target="341,8,&#24187;&#28783;&#29255; 8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-1,6,&#24187;&#28783;&#29255; 6" TargetMode="External"/><Relationship Id="rId2" Type="http://schemas.openxmlformats.org/officeDocument/2006/relationships/hyperlink" Target="http://images.google.cn/imgres?imgurl=http://www.tswdyz.com/Files/&#27721;&#40635;&#23376;&#27833;.jpg&amp;imgrefurl=http://www.tswdyz.com/&amp;usg=__pPe0ZNrOc09ebLk5uzGvJFrSeLQ=&amp;h=567&amp;w=307&amp;sz=155&amp;hl=zh-CN&amp;start=1&amp;tbnid=fEpYXKavAoeBPM:&amp;tbnh=134&amp;tbnw=73&amp;prev=/images%3Fq%3D%25E6%25B2%25B9%26hl%3Dzh-CN%26inlang%3Dzh-CN%26client%3Daff-avalanche%26channel%3Dprefill%26hs%3D5iX%26newwindow%3D1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s.google.cn/imgres?imgurl=http://www.mzj.suzhou.gov.cn/szmzj/UploadFile/szjxzx//200709171342124198.jpg&amp;imgrefurl=http://www.mzj.suzhou.gov.cn/szmzj/jxgb/showinfo.aspx%3Finfoid%3Da5131993-beac-45cd-8a4b-a224476f2a5d%26categoryNum%3D004001%26siteid%3D7&amp;usg=__sB5fqwygk-UGdysvT3EbzqLYQP8=&amp;h=255&amp;w=340&amp;sz=50&amp;hl=zh-CN&amp;start=16&amp;tbnid=23K5wt80zJVwEM:&amp;tbnh=89&amp;tbnw=119&amp;prev=/images%3Fq%3D%25E7%258C%25AA%25E8%2582%25A5%25E8%2582%2589%26hl%3Dzh-CN%26inlang%3Dzh-CN%26client%3Daff-avalanche%26channel%3Dprefill%26newwindow%3D1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n/imgres?imgurl=http://www.tglk.net/&#26680;&#26691;2.jpg&amp;imgrefurl=http://www.tglk.net/chanpin.htm&amp;usg=__km-PZFJl0AF2AT0ouDt-X1bx-hk=&amp;h=638&amp;w=850&amp;sz=433&amp;hl=zh-CN&amp;start=1&amp;tbnid=Sg36DM0Oq8_XwM:&amp;tbnh=109&amp;tbnw=145&amp;prev=/images%3Fq%3D%25E6%25A0%25B8%25E6%25A1%2583%26hl%3Dzh-CN%26inlang%3Dzh-CN%26client%3Daff-avalanche%26channel%3Dprefill%26hs%3D65C%26newwindow%3D1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images.google.cn/imgres?imgurl=http://www.gloagri.net.cn/uploadfiles/businessinfoimages/4da395f3-6916-4846-97a0-bf7ef1ba3d99_&#22823;&#35910;.jpg&amp;imgrefurl=http://www.gloagri.net.cn/product/ViewProduct.aspx%3FID%3D3188&amp;usg=__IGjloXnh-yrnRH-oiuB3k9qYWZo=&amp;h=408&amp;w=615&amp;sz=36&amp;hl=zh-CN&amp;start=3&amp;tbnid=7hBfcxUmW0z-CM:&amp;tbnh=90&amp;tbnw=136&amp;prev=/images%3Fq%3D%25E5%25A4%25A7%25E8%25B1%2586%26hl%3Dzh-CN%26inlang%3Dzh-CN%26client%3Daff-avalanche%26channel%3Dprefill%26hs%3Dx9q%26newwindow%3D1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images.google.cn/imgres?imgurl=http://www.cvmachine.com/space/attachments/2007/07/1443_200707261153291.jpg&amp;imgrefurl=http://www.cvmachine.com/space/html/91/n-195091.html&amp;usg=__KaSwLgBPhG9CHkk87qecqzN4pqI=&amp;h=480&amp;w=640&amp;sz=85&amp;hl=zh-CN&amp;start=1&amp;tbnid=-1g7yQdOSx-NwM:&amp;tbnh=103&amp;tbnw=137&amp;prev=/images%3Fq%3D%25E8%258A%25B1%25E7%2594%259F%26hl%3Dzh-CN%26inlang%3Dzh-CN%26client%3Daff-avalanche%26channel%3Dprefill%26hs%3DVVW%26newwindow%3D1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-1,6,&#24187;&#28783;&#29255; 6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0115"/>
          <p:cNvSpPr txBox="1"/>
          <p:nvPr/>
        </p:nvSpPr>
        <p:spPr>
          <a:xfrm>
            <a:off x="611280" y="1916280"/>
            <a:ext cx="7489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十二单元“化学与生活”主题复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成细胞的基本物质，机体生长及修补受损组织的主要原料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卫生与身体健康密切相关。下列做法会导致食品对人体有害的是（　　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石灰水保存鲜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保持肉制品鲜美，在香肠中添加过量的亚硝酸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蒸馒头时加入适量的纯碱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让猪长得瘦，用“瘦肉精”（含激素的饲料）饲养生猪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②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③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③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④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醛会和蛋白质发生反应，破坏蛋白质的结构，使其变质生成不溶性物质，若误食含有甲醛的食品，喝下列哪种液体能有效地减少甲醛对人体的伤害（　　）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醋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奶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开水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水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矩形 91139"/>
          <p:cNvSpPr txBox="1"/>
          <p:nvPr/>
        </p:nvSpPr>
        <p:spPr>
          <a:xfrm>
            <a:off x="468360" y="26028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练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1" name="文本框 91140"/>
          <p:cNvSpPr/>
          <p:nvPr/>
        </p:nvSpPr>
        <p:spPr>
          <a:xfrm>
            <a:off x="2050920" y="119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楷体_GB2312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1141"/>
          <p:cNvSpPr/>
          <p:nvPr/>
        </p:nvSpPr>
        <p:spPr>
          <a:xfrm>
            <a:off x="3635280" y="220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Verdana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91144"/>
          <p:cNvSpPr/>
          <p:nvPr/>
        </p:nvSpPr>
        <p:spPr>
          <a:xfrm>
            <a:off x="755640" y="6381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91145"/>
          <p:cNvSpPr/>
          <p:nvPr/>
        </p:nvSpPr>
        <p:spPr>
          <a:xfrm>
            <a:off x="7812000" y="537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Verdana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05473"/>
          <p:cNvSpPr/>
          <p:nvPr/>
        </p:nvSpPr>
        <p:spPr>
          <a:xfrm>
            <a:off x="0" y="11970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界上已知元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05474"/>
          <p:cNvSpPr/>
          <p:nvPr/>
        </p:nvSpPr>
        <p:spPr>
          <a:xfrm>
            <a:off x="1258920" y="1844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05475"/>
          <p:cNvSpPr/>
          <p:nvPr/>
        </p:nvSpPr>
        <p:spPr>
          <a:xfrm>
            <a:off x="1547640" y="11970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体中所含元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左大括号 105476"/>
          <p:cNvSpPr/>
          <p:nvPr/>
        </p:nvSpPr>
        <p:spPr>
          <a:xfrm>
            <a:off x="2843280" y="189000"/>
            <a:ext cx="431640" cy="3500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381"/>
                </a:lnTo>
                <a:cubicBezTo>
                  <a:pt x="10800" y="8281"/>
                  <a:pt x="5400" y="9180"/>
                  <a:pt x="0" y="9180"/>
                </a:cubicBezTo>
                <a:cubicBezTo>
                  <a:pt x="5400" y="9180"/>
                  <a:pt x="10800" y="10080"/>
                  <a:pt x="10800" y="1097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05477"/>
          <p:cNvSpPr/>
          <p:nvPr/>
        </p:nvSpPr>
        <p:spPr>
          <a:xfrm>
            <a:off x="3060720" y="189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水、糖类、油脂、蛋白质、维生素形式存在的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人体中含量前四位的元素，共占人体质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05478"/>
          <p:cNvSpPr/>
          <p:nvPr/>
        </p:nvSpPr>
        <p:spPr>
          <a:xfrm>
            <a:off x="3060720" y="2421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无机盐形式存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大括号 105479"/>
          <p:cNvSpPr/>
          <p:nvPr/>
        </p:nvSpPr>
        <p:spPr>
          <a:xfrm>
            <a:off x="4140360" y="213372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200"/>
                </a:lnTo>
                <a:cubicBezTo>
                  <a:pt x="10800" y="5100"/>
                  <a:pt x="5400" y="6000"/>
                  <a:pt x="0" y="6000"/>
                </a:cubicBezTo>
                <a:cubicBezTo>
                  <a:pt x="5400" y="6000"/>
                  <a:pt x="10800" y="6900"/>
                  <a:pt x="10800" y="7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5480"/>
          <p:cNvSpPr/>
          <p:nvPr/>
        </p:nvSpPr>
        <p:spPr>
          <a:xfrm>
            <a:off x="4305240" y="2133720"/>
            <a:ext cx="40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元素（含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.0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05481"/>
          <p:cNvSpPr/>
          <p:nvPr/>
        </p:nvSpPr>
        <p:spPr>
          <a:xfrm>
            <a:off x="4305240" y="3954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量元素（含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0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左大括号 105482"/>
          <p:cNvSpPr/>
          <p:nvPr/>
        </p:nvSpPr>
        <p:spPr>
          <a:xfrm rot="5400000">
            <a:off x="4294800" y="1110240"/>
            <a:ext cx="335160" cy="8137440"/>
          </a:xfrm>
          <a:custGeom>
            <a:avLst/>
            <a:gdLst>
              <a:gd name="textAreaLeft" fmla="*/ 214200 w 335160"/>
              <a:gd name="textAreaRight" fmla="*/ 335520 w 335160"/>
              <a:gd name="textAreaTop" fmla="*/ 212040 h 8137440"/>
              <a:gd name="textAreaBottom" fmla="*/ 7925400 h 81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5007"/>
                </a:lnTo>
                <a:cubicBezTo>
                  <a:pt x="10800" y="5907"/>
                  <a:pt x="5400" y="6806"/>
                  <a:pt x="0" y="6806"/>
                </a:cubicBezTo>
                <a:cubicBezTo>
                  <a:pt x="5400" y="6806"/>
                  <a:pt x="10800" y="7706"/>
                  <a:pt x="10800" y="8605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5483"/>
          <p:cNvSpPr/>
          <p:nvPr/>
        </p:nvSpPr>
        <p:spPr>
          <a:xfrm>
            <a:off x="395280" y="544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需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05484"/>
          <p:cNvSpPr/>
          <p:nvPr/>
        </p:nvSpPr>
        <p:spPr>
          <a:xfrm>
            <a:off x="3995640" y="5445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必需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05485"/>
          <p:cNvSpPr/>
          <p:nvPr/>
        </p:nvSpPr>
        <p:spPr>
          <a:xfrm>
            <a:off x="6948360" y="544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害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05486"/>
          <p:cNvSpPr/>
          <p:nvPr/>
        </p:nvSpPr>
        <p:spPr>
          <a:xfrm>
            <a:off x="395280" y="595008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、锌、硒、碘、氟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5487"/>
          <p:cNvSpPr/>
          <p:nvPr/>
        </p:nvSpPr>
        <p:spPr>
          <a:xfrm>
            <a:off x="6732720" y="5950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汞、铅、铊、铍、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05490"/>
          <p:cNvSpPr/>
          <p:nvPr/>
        </p:nvSpPr>
        <p:spPr>
          <a:xfrm>
            <a:off x="4321080" y="2565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、磷、钾、硫、钠、氯、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05492"/>
          <p:cNvSpPr/>
          <p:nvPr/>
        </p:nvSpPr>
        <p:spPr>
          <a:xfrm>
            <a:off x="4427640" y="43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左大括号 105493"/>
          <p:cNvSpPr/>
          <p:nvPr/>
        </p:nvSpPr>
        <p:spPr>
          <a:xfrm rot="10800000">
            <a:off x="8388360" y="333000"/>
            <a:ext cx="216000" cy="302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755"/>
                </a:lnTo>
                <a:cubicBezTo>
                  <a:pt x="10800" y="10655"/>
                  <a:pt x="5400" y="11554"/>
                  <a:pt x="0" y="11554"/>
                </a:cubicBezTo>
                <a:cubicBezTo>
                  <a:pt x="5400" y="11554"/>
                  <a:pt x="10800" y="12454"/>
                  <a:pt x="10800" y="1335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5494"/>
          <p:cNvSpPr/>
          <p:nvPr/>
        </p:nvSpPr>
        <p:spPr>
          <a:xfrm>
            <a:off x="8604360" y="1413000"/>
            <a:ext cx="5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05495"/>
          <p:cNvSpPr/>
          <p:nvPr/>
        </p:nvSpPr>
        <p:spPr>
          <a:xfrm>
            <a:off x="1692360" y="54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05496"/>
          <p:cNvSpPr/>
          <p:nvPr/>
        </p:nvSpPr>
        <p:spPr>
          <a:xfrm>
            <a:off x="3851280" y="6165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铝、钡、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05497"/>
          <p:cNvSpPr txBox="1"/>
          <p:nvPr/>
        </p:nvSpPr>
        <p:spPr>
          <a:xfrm>
            <a:off x="324000" y="33336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化学元素与人体健康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生素和以无机盐形式存在的元素能够调节人体的新陈代谢，缺乏时会导致疾病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缺乏维生素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患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缺乏维生素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患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体缺乏铁元素会引起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幼儿及青少年缺钙会得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老年人缺钙会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容易发生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因体内缺乏而引起表皮角质化和癌症的营养元素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甲状腺肿大是缺乏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甲中有白斑且食欲不振是缺乏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龋齿是缺乏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文本框 92163"/>
          <p:cNvSpPr/>
          <p:nvPr/>
        </p:nvSpPr>
        <p:spPr>
          <a:xfrm>
            <a:off x="4572000" y="119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2166"/>
          <p:cNvSpPr/>
          <p:nvPr/>
        </p:nvSpPr>
        <p:spPr>
          <a:xfrm>
            <a:off x="4643280" y="1773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2167"/>
          <p:cNvSpPr/>
          <p:nvPr/>
        </p:nvSpPr>
        <p:spPr>
          <a:xfrm>
            <a:off x="5076720" y="292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2168"/>
          <p:cNvSpPr/>
          <p:nvPr/>
        </p:nvSpPr>
        <p:spPr>
          <a:xfrm>
            <a:off x="6732720" y="29242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发育不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2169"/>
          <p:cNvSpPr/>
          <p:nvPr/>
        </p:nvSpPr>
        <p:spPr>
          <a:xfrm>
            <a:off x="3059280" y="33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骨质疏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2170"/>
          <p:cNvSpPr/>
          <p:nvPr/>
        </p:nvSpPr>
        <p:spPr>
          <a:xfrm>
            <a:off x="6299280" y="3357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骨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2171"/>
          <p:cNvSpPr/>
          <p:nvPr/>
        </p:nvSpPr>
        <p:spPr>
          <a:xfrm>
            <a:off x="190800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硒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92172"/>
          <p:cNvSpPr/>
          <p:nvPr/>
        </p:nvSpPr>
        <p:spPr>
          <a:xfrm>
            <a:off x="4284720" y="49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碘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2173"/>
          <p:cNvSpPr/>
          <p:nvPr/>
        </p:nvSpPr>
        <p:spPr>
          <a:xfrm>
            <a:off x="6659640" y="544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锌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92174"/>
          <p:cNvSpPr/>
          <p:nvPr/>
        </p:nvSpPr>
        <p:spPr>
          <a:xfrm>
            <a:off x="5076720" y="23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缺铁性贫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2175"/>
          <p:cNvSpPr/>
          <p:nvPr/>
        </p:nvSpPr>
        <p:spPr>
          <a:xfrm>
            <a:off x="3276720" y="602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Verdana"/>
                <a:ea typeface="黑体"/>
              </a:rPr>
              <a:t>氟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饮品的主要成分为：脂肪、鸡蛋蛋白粉、钾、钙等。该饮品不能为人体补充的营养素是（    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无机盐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油脂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蛋白质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维生素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叙述正确的是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青少年的生长需要大量蛋白质，所以要多吃水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油脂和糖类物质都能够为人体提供热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合成纤维、合金、合成橡胶都是合成材料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焚烧塑料是解决“白色污染”的好办法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常生活中的下列做法，正确的是（  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体为了补钙，可以长期饮用硬水，补充钙元素   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了补充维生素，可以多食水果和蔬菜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了防止海产品变质用甲醛溶液浸泡它们        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539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了减少浪费粮食，由于储存不当发霉的大米也可以食用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矩形 135171"/>
          <p:cNvSpPr/>
          <p:nvPr/>
        </p:nvSpPr>
        <p:spPr>
          <a:xfrm>
            <a:off x="6229800" y="40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5172"/>
          <p:cNvSpPr/>
          <p:nvPr/>
        </p:nvSpPr>
        <p:spPr>
          <a:xfrm>
            <a:off x="406944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35173"/>
          <p:cNvSpPr/>
          <p:nvPr/>
        </p:nvSpPr>
        <p:spPr>
          <a:xfrm>
            <a:off x="6302880" y="36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左大括号 109570"/>
          <p:cNvSpPr/>
          <p:nvPr/>
        </p:nvSpPr>
        <p:spPr>
          <a:xfrm>
            <a:off x="898560" y="3139920"/>
            <a:ext cx="360360" cy="23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09571"/>
          <p:cNvSpPr/>
          <p:nvPr/>
        </p:nvSpPr>
        <p:spPr>
          <a:xfrm>
            <a:off x="1332000" y="2995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有机化合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09572"/>
          <p:cNvSpPr/>
          <p:nvPr/>
        </p:nvSpPr>
        <p:spPr>
          <a:xfrm>
            <a:off x="1187280" y="508464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无机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09573"/>
          <p:cNvSpPr/>
          <p:nvPr/>
        </p:nvSpPr>
        <p:spPr>
          <a:xfrm>
            <a:off x="3348000" y="3139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含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左大括号 109574"/>
          <p:cNvSpPr/>
          <p:nvPr/>
        </p:nvSpPr>
        <p:spPr>
          <a:xfrm>
            <a:off x="4067280" y="2708280"/>
            <a:ext cx="215640" cy="1441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09575"/>
          <p:cNvSpPr/>
          <p:nvPr/>
        </p:nvSpPr>
        <p:spPr>
          <a:xfrm>
            <a:off x="4356000" y="2492280"/>
            <a:ext cx="435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小分子：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09576"/>
          <p:cNvSpPr/>
          <p:nvPr/>
        </p:nvSpPr>
        <p:spPr>
          <a:xfrm>
            <a:off x="4356000" y="3932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有机高分子化合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09577"/>
          <p:cNvSpPr/>
          <p:nvPr/>
        </p:nvSpPr>
        <p:spPr>
          <a:xfrm>
            <a:off x="1332000" y="3571920"/>
            <a:ext cx="21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碳酸盐除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9578"/>
          <p:cNvSpPr txBox="1"/>
          <p:nvPr/>
        </p:nvSpPr>
        <p:spPr>
          <a:xfrm>
            <a:off x="1692360" y="476280"/>
            <a:ext cx="4897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有机合成材料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文本框 109579"/>
          <p:cNvSpPr/>
          <p:nvPr/>
        </p:nvSpPr>
        <p:spPr>
          <a:xfrm>
            <a:off x="322200" y="386064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9590"/>
          <p:cNvSpPr/>
          <p:nvPr/>
        </p:nvSpPr>
        <p:spPr>
          <a:xfrm>
            <a:off x="7204320" y="4003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蛋白质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32097"/>
          <p:cNvSpPr/>
          <p:nvPr/>
        </p:nvSpPr>
        <p:spPr>
          <a:xfrm>
            <a:off x="971640" y="0"/>
            <a:ext cx="252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机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2098"/>
          <p:cNvSpPr/>
          <p:nvPr/>
        </p:nvSpPr>
        <p:spPr>
          <a:xfrm>
            <a:off x="250920" y="1125360"/>
            <a:ext cx="1800000" cy="5205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机高分子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32099"/>
          <p:cNvSpPr/>
          <p:nvPr/>
        </p:nvSpPr>
        <p:spPr>
          <a:xfrm>
            <a:off x="2519280" y="76500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成材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32100"/>
          <p:cNvSpPr/>
          <p:nvPr/>
        </p:nvSpPr>
        <p:spPr>
          <a:xfrm>
            <a:off x="176364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链状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32101"/>
          <p:cNvSpPr/>
          <p:nvPr/>
        </p:nvSpPr>
        <p:spPr>
          <a:xfrm>
            <a:off x="3492360" y="45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32102"/>
          <p:cNvSpPr/>
          <p:nvPr/>
        </p:nvSpPr>
        <p:spPr>
          <a:xfrm>
            <a:off x="3419640" y="566100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32103"/>
          <p:cNvSpPr/>
          <p:nvPr/>
        </p:nvSpPr>
        <p:spPr>
          <a:xfrm>
            <a:off x="421164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热塑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左大括号 132104"/>
          <p:cNvSpPr/>
          <p:nvPr/>
        </p:nvSpPr>
        <p:spPr>
          <a:xfrm>
            <a:off x="1547640" y="4508640"/>
            <a:ext cx="216000" cy="1153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748"/>
                </a:lnTo>
                <a:cubicBezTo>
                  <a:pt x="10800" y="9648"/>
                  <a:pt x="5400" y="10547"/>
                  <a:pt x="0" y="10547"/>
                </a:cubicBezTo>
                <a:cubicBezTo>
                  <a:pt x="5400" y="10547"/>
                  <a:pt x="10800" y="11447"/>
                  <a:pt x="10800" y="1234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32105"/>
          <p:cNvSpPr/>
          <p:nvPr/>
        </p:nvSpPr>
        <p:spPr>
          <a:xfrm>
            <a:off x="395280" y="4653000"/>
            <a:ext cx="129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塑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左大括号 132106"/>
          <p:cNvSpPr/>
          <p:nvPr/>
        </p:nvSpPr>
        <p:spPr>
          <a:xfrm>
            <a:off x="2124000" y="981000"/>
            <a:ext cx="216000" cy="172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748"/>
                </a:lnTo>
                <a:cubicBezTo>
                  <a:pt x="10800" y="9648"/>
                  <a:pt x="5400" y="10547"/>
                  <a:pt x="0" y="10547"/>
                </a:cubicBezTo>
                <a:cubicBezTo>
                  <a:pt x="5400" y="10547"/>
                  <a:pt x="10800" y="11447"/>
                  <a:pt x="10800" y="1234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2107"/>
          <p:cNvSpPr/>
          <p:nvPr/>
        </p:nvSpPr>
        <p:spPr>
          <a:xfrm>
            <a:off x="2052720" y="537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网状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2108"/>
          <p:cNvSpPr/>
          <p:nvPr/>
        </p:nvSpPr>
        <p:spPr>
          <a:xfrm>
            <a:off x="450216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热固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32109"/>
          <p:cNvSpPr/>
          <p:nvPr/>
        </p:nvSpPr>
        <p:spPr>
          <a:xfrm>
            <a:off x="4572000" y="206064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塑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合成纤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合成橡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左大括号 132110"/>
          <p:cNvSpPr/>
          <p:nvPr/>
        </p:nvSpPr>
        <p:spPr>
          <a:xfrm>
            <a:off x="4211640" y="220500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748"/>
                </a:lnTo>
                <a:cubicBezTo>
                  <a:pt x="10800" y="9648"/>
                  <a:pt x="5400" y="10547"/>
                  <a:pt x="0" y="10547"/>
                </a:cubicBezTo>
                <a:cubicBezTo>
                  <a:pt x="5400" y="10547"/>
                  <a:pt x="10800" y="11447"/>
                  <a:pt x="10800" y="1234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2111"/>
          <p:cNvSpPr/>
          <p:nvPr/>
        </p:nvSpPr>
        <p:spPr>
          <a:xfrm>
            <a:off x="4211640" y="7650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棉花、羊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丝、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然橡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31073"/>
          <p:cNvSpPr/>
          <p:nvPr/>
        </p:nvSpPr>
        <p:spPr>
          <a:xfrm>
            <a:off x="179280" y="620640"/>
            <a:ext cx="8785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合成材料的利与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利：</a:t>
            </a:r>
            <a:r>
              <a:rPr b="1" lang="zh-CN" sz="28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大大方便了人类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弊：</a:t>
            </a:r>
            <a:r>
              <a:rPr b="1" lang="zh-CN" sz="28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带来了环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如何解决“白色污染”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少使用不必要的塑料制品，如用布袋代替塑料袋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复使用某些塑料制品如塑料袋、塑料盒等。　　　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一些新型的、可降解的塑料，如微生物降解塑料和光降解塑料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收各种废弃塑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35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鉴别下列物质：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毛纤维和合成纤维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其分别点燃，燃烧时有烧焦羽毛气味的是羊毛纤维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矩形 136195"/>
          <p:cNvSpPr/>
          <p:nvPr/>
        </p:nvSpPr>
        <p:spPr>
          <a:xfrm>
            <a:off x="179280" y="335772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加酶洗衣粉易除去衣物上的汗渍、血迹及油渍。现有下列衣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毛织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棉花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纤布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丝织品。其中不宜用加酶洗衣粉洗涤的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③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④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②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36196"/>
          <p:cNvSpPr/>
          <p:nvPr/>
        </p:nvSpPr>
        <p:spPr>
          <a:xfrm>
            <a:off x="1910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图是某品牌服装标签。下列有关错误的是（ 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羊毛属于合成纤维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该服装面料不耐高温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羊毛和涤纶可用燃烧法区别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加入涤纶可增强面料的耐磨性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是以土豆等副食品废料为原料，经多步处理而制成，是一种新型的可降解塑料。下列有关乳酸基塑料的说法中错误的是（    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乳酸基塑料属于金属材料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制取乳酸基塑料的原料比较低廉且广泛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乳酸基塑料制品可以减少“白色污染”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乳酸基塑料属于有机高分子材料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4" name="图片 134147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665440" cy="1728720"/>
          </a:xfrm>
          <a:prstGeom prst="rect">
            <a:avLst/>
          </a:prstGeom>
          <a:ln w="0">
            <a:noFill/>
          </a:ln>
        </p:spPr>
      </p:pic>
      <p:sp>
        <p:nvSpPr>
          <p:cNvPr id="215" name="矩形 134148"/>
          <p:cNvSpPr/>
          <p:nvPr/>
        </p:nvSpPr>
        <p:spPr>
          <a:xfrm>
            <a:off x="902160" y="5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34152"/>
          <p:cNvSpPr/>
          <p:nvPr/>
        </p:nvSpPr>
        <p:spPr>
          <a:xfrm>
            <a:off x="659016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目前，一种新型的甜味剂木糖醇在市场上悄然出现。木糖醇的化学式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最大的优势是可以减少或者预防蛀牙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醣醇的甜度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蔗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，但热量只有蔗糖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介绍，木糖醇是一种原产于芬兰的天然甜味剂，后来日本从白桦树和玉米芯等植物中提炼出这种天然甜料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木醣醇不能被细菌分解，利用它来取代甜品中的糖份，可以防止蛀牙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在口香糖里添加木糖醇是目前国际上最为普遍的防蛀方法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木糖醇是一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有机化合物、无机化合物）； 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于营养素中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相对分子质量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请你设计实验证明木糖醇中含有碳元素和氢元素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步骤现象结论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图片 133123" descr="䝡Ǚ²"/>
          <p:cNvPicPr/>
          <p:nvPr/>
        </p:nvPicPr>
        <p:blipFill>
          <a:blip r:embed="rId1"/>
          <a:stretch/>
        </p:blipFill>
        <p:spPr>
          <a:xfrm>
            <a:off x="7667640" y="3429000"/>
            <a:ext cx="147636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539640" y="4076640"/>
          <a:ext cx="6913440" cy="2378160"/>
        </p:xfrm>
        <a:graphic>
          <a:graphicData uri="http://schemas.openxmlformats.org/drawingml/2006/table">
            <a:tbl>
              <a:tblPr/>
              <a:tblGrid>
                <a:gridCol w="3384720"/>
                <a:gridCol w="158400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操作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矩形 133162"/>
          <p:cNvSpPr/>
          <p:nvPr/>
        </p:nvSpPr>
        <p:spPr>
          <a:xfrm>
            <a:off x="0" y="404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3165"/>
          <p:cNvSpPr/>
          <p:nvPr/>
        </p:nvSpPr>
        <p:spPr>
          <a:xfrm>
            <a:off x="3924360" y="465300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烧杯内壁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水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石灰水变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浑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3167"/>
          <p:cNvSpPr/>
          <p:nvPr/>
        </p:nvSpPr>
        <p:spPr>
          <a:xfrm>
            <a:off x="5724360" y="472428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木糖醇中含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氢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木糖醇中含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碳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33172"/>
          <p:cNvSpPr/>
          <p:nvPr/>
        </p:nvSpPr>
        <p:spPr>
          <a:xfrm>
            <a:off x="7382520" y="2735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5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3173"/>
          <p:cNvSpPr/>
          <p:nvPr/>
        </p:nvSpPr>
        <p:spPr>
          <a:xfrm>
            <a:off x="2843280" y="22716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有机化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3174"/>
          <p:cNvSpPr/>
          <p:nvPr/>
        </p:nvSpPr>
        <p:spPr>
          <a:xfrm>
            <a:off x="2844360" y="2651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糖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3176"/>
          <p:cNvSpPr/>
          <p:nvPr/>
        </p:nvSpPr>
        <p:spPr>
          <a:xfrm>
            <a:off x="539640" y="458136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把木糖醇灼烧，再罩上一干冷的烧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迅速倒立烧杯，滴加澄清的石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916360" y="3142800"/>
            <a:ext cx="324144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Franklin Gothic Medium"/>
                <a:ea typeface="楷体_GB2312"/>
              </a:rPr>
              <a:t>化学与生活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直接连接符 114691"/>
          <p:cNvSpPr/>
          <p:nvPr/>
        </p:nvSpPr>
        <p:spPr>
          <a:xfrm flipH="1" flipV="1">
            <a:off x="2842920" y="2276640"/>
            <a:ext cx="863640" cy="1009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14693"/>
          <p:cNvSpPr/>
          <p:nvPr/>
        </p:nvSpPr>
        <p:spPr>
          <a:xfrm>
            <a:off x="4427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4694"/>
          <p:cNvSpPr/>
          <p:nvPr/>
        </p:nvSpPr>
        <p:spPr>
          <a:xfrm flipV="1">
            <a:off x="5148360" y="220500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14695"/>
          <p:cNvSpPr/>
          <p:nvPr/>
        </p:nvSpPr>
        <p:spPr>
          <a:xfrm rot="20370600">
            <a:off x="468720" y="1628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类重要的营养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4696"/>
          <p:cNvSpPr/>
          <p:nvPr/>
        </p:nvSpPr>
        <p:spPr>
          <a:xfrm rot="1424400">
            <a:off x="4787640" y="1557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化学元素与人体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4697"/>
          <p:cNvSpPr/>
          <p:nvPr/>
        </p:nvSpPr>
        <p:spPr>
          <a:xfrm>
            <a:off x="3059280" y="508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机合成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68360" y="19890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类营养物质在人的生命活动中，都起着重要的、彼此之间不可替代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4724280"/>
            <a:ext cx="79106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63c1"/>
                </a:solidFill>
                <a:latin typeface="Times New Roman"/>
              </a:rPr>
              <a:t>要合理安排饮食，不要偏食、挑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12643"/>
          <p:cNvSpPr/>
          <p:nvPr/>
        </p:nvSpPr>
        <p:spPr>
          <a:xfrm>
            <a:off x="611280" y="404640"/>
            <a:ext cx="403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行楷"/>
              </a:rPr>
              <a:t>生活小贴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4"/>
          <p:cNvPicPr/>
          <p:nvPr/>
        </p:nvPicPr>
        <p:blipFill>
          <a:blip r:embed="rId1"/>
          <a:stretch/>
        </p:blipFill>
        <p:spPr>
          <a:xfrm>
            <a:off x="281160" y="725400"/>
            <a:ext cx="5019480" cy="5943600"/>
          </a:xfrm>
          <a:prstGeom prst="rect">
            <a:avLst/>
          </a:prstGeom>
          <a:ln w="0">
            <a:noFill/>
          </a:ln>
        </p:spPr>
      </p:pic>
      <p:sp>
        <p:nvSpPr>
          <p:cNvPr id="231" name="Oval 5"/>
          <p:cNvSpPr/>
          <p:nvPr/>
        </p:nvSpPr>
        <p:spPr>
          <a:xfrm>
            <a:off x="1828800" y="0"/>
            <a:ext cx="6858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居民“平衡膳食宝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09760" y="725400"/>
            <a:ext cx="68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黑体"/>
              </a:rPr>
              <a:t>按每天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2727360" y="1065240"/>
            <a:ext cx="5884560" cy="581400"/>
            <a:chOff x="2727360" y="1065240"/>
            <a:chExt cx="5884560" cy="581400"/>
          </a:xfrm>
        </p:grpSpPr>
        <p:sp>
          <p:nvSpPr>
            <p:cNvPr id="234" name="Text Box 8"/>
            <p:cNvSpPr/>
            <p:nvPr/>
          </p:nvSpPr>
          <p:spPr>
            <a:xfrm>
              <a:off x="5249160" y="1065240"/>
              <a:ext cx="336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超过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油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9"/>
            <p:cNvSpPr/>
            <p:nvPr/>
          </p:nvSpPr>
          <p:spPr>
            <a:xfrm>
              <a:off x="2727360" y="1336680"/>
              <a:ext cx="25984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3276720" y="3213000"/>
            <a:ext cx="5962320" cy="581400"/>
            <a:chOff x="3276720" y="3213000"/>
            <a:chExt cx="5962320" cy="581400"/>
          </a:xfrm>
        </p:grpSpPr>
        <p:sp>
          <p:nvSpPr>
            <p:cNvPr id="237" name="Text Box 11"/>
            <p:cNvSpPr/>
            <p:nvPr/>
          </p:nvSpPr>
          <p:spPr>
            <a:xfrm>
              <a:off x="4881960" y="3213000"/>
              <a:ext cx="43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5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动物性食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"/>
            <p:cNvSpPr/>
            <p:nvPr/>
          </p:nvSpPr>
          <p:spPr>
            <a:xfrm>
              <a:off x="3276720" y="3517920"/>
              <a:ext cx="16815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4025880" y="3849840"/>
            <a:ext cx="4973400" cy="1323000"/>
            <a:chOff x="4025880" y="3849840"/>
            <a:chExt cx="4973400" cy="1323000"/>
          </a:xfrm>
        </p:grpSpPr>
        <p:sp>
          <p:nvSpPr>
            <p:cNvPr id="240" name="Text Box 14"/>
            <p:cNvSpPr/>
            <p:nvPr/>
          </p:nvSpPr>
          <p:spPr>
            <a:xfrm>
              <a:off x="5248800" y="3849840"/>
              <a:ext cx="3750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蔬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水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4025880" y="4154400"/>
              <a:ext cx="1375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6"/>
            <p:cNvSpPr/>
            <p:nvPr/>
          </p:nvSpPr>
          <p:spPr>
            <a:xfrm>
              <a:off x="4178520" y="4687920"/>
              <a:ext cx="1146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4714920" y="5373720"/>
            <a:ext cx="4444560" cy="581400"/>
            <a:chOff x="4714920" y="5373720"/>
            <a:chExt cx="4444560" cy="581400"/>
          </a:xfrm>
        </p:grpSpPr>
        <p:sp>
          <p:nvSpPr>
            <p:cNvPr id="244" name="Text Box 18"/>
            <p:cNvSpPr/>
            <p:nvPr/>
          </p:nvSpPr>
          <p:spPr>
            <a:xfrm>
              <a:off x="5249520" y="5373720"/>
              <a:ext cx="390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0---50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谷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9"/>
            <p:cNvSpPr/>
            <p:nvPr/>
          </p:nvSpPr>
          <p:spPr>
            <a:xfrm>
              <a:off x="4714920" y="5602320"/>
              <a:ext cx="580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"/>
          <p:cNvGrpSpPr/>
          <p:nvPr/>
        </p:nvGrpSpPr>
        <p:grpSpPr>
          <a:xfrm>
            <a:off x="3032280" y="1716120"/>
            <a:ext cx="5503320" cy="1323000"/>
            <a:chOff x="3032280" y="1716120"/>
            <a:chExt cx="5503320" cy="1323000"/>
          </a:xfrm>
        </p:grpSpPr>
        <p:sp>
          <p:nvSpPr>
            <p:cNvPr id="247" name="Text Box 21"/>
            <p:cNvSpPr/>
            <p:nvPr/>
          </p:nvSpPr>
          <p:spPr>
            <a:xfrm>
              <a:off x="5248800" y="1716120"/>
              <a:ext cx="3286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奶制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豆制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2"/>
            <p:cNvSpPr/>
            <p:nvPr/>
          </p:nvSpPr>
          <p:spPr>
            <a:xfrm>
              <a:off x="3032280" y="2173320"/>
              <a:ext cx="22928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3"/>
            <p:cNvSpPr/>
            <p:nvPr/>
          </p:nvSpPr>
          <p:spPr>
            <a:xfrm>
              <a:off x="3261240" y="2706480"/>
              <a:ext cx="206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 Box 2" descr=""/>
          <p:cNvPicPr/>
          <p:nvPr/>
        </p:nvPicPr>
        <p:blipFill>
          <a:blip r:embed="rId1"/>
          <a:stretch/>
        </p:blipFill>
        <p:spPr>
          <a:xfrm>
            <a:off x="1420920" y="1341360"/>
            <a:ext cx="7723080" cy="1657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2"/>
          <p:cNvPicPr/>
          <p:nvPr/>
        </p:nvPicPr>
        <p:blipFill>
          <a:blip r:embed="rId2"/>
          <a:stretch/>
        </p:blipFill>
        <p:spPr>
          <a:xfrm>
            <a:off x="0" y="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1"/>
          <p:cNvPicPr/>
          <p:nvPr/>
        </p:nvPicPr>
        <p:blipFill>
          <a:blip r:embed="rId3"/>
          <a:stretch/>
        </p:blipFill>
        <p:spPr>
          <a:xfrm>
            <a:off x="0" y="5037120"/>
            <a:ext cx="2514600" cy="182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4"/>
          <a:stretch/>
        </p:blipFill>
        <p:spPr>
          <a:xfrm>
            <a:off x="6885000" y="4114800"/>
            <a:ext cx="22590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4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26920" y="3933720"/>
            <a:ext cx="2286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563c1"/>
                </a:solidFill>
                <a:uFillTx/>
                <a:latin typeface="Calibri"/>
                <a:ea typeface="黑体"/>
                <a:hlinkClick r:id="rId6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987640" y="3879720"/>
            <a:ext cx="2362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563c1"/>
                </a:solidFill>
                <a:uFillTx/>
                <a:latin typeface="黑体"/>
                <a:ea typeface="黑体"/>
                <a:hlinkClick r:id="rId7"/>
              </a:rPr>
              <a:t>糖  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292720" y="3860640"/>
            <a:ext cx="180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563c1"/>
                </a:solidFill>
                <a:uFillTx/>
                <a:latin typeface="黑体"/>
                <a:ea typeface="黑体"/>
                <a:hlinkClick r:id="rId8"/>
              </a:rPr>
              <a:t>油  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979640" y="47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黑体"/>
              </a:rPr>
              <a:t>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067280" y="47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黑体"/>
              </a:rPr>
              <a:t>无机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84720" y="48690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黑体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627280" y="2924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黑体"/>
              </a:rPr>
              <a:t>六大营养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6"/>
          <p:cNvSpPr/>
          <p:nvPr/>
        </p:nvSpPr>
        <p:spPr>
          <a:xfrm>
            <a:off x="3203640" y="0"/>
            <a:ext cx="2649600" cy="10526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563c1"/>
                </a:solidFill>
                <a:uFillTx/>
                <a:latin typeface="Calibri"/>
                <a:ea typeface="楷体_GB2312"/>
                <a:hlinkClick r:id="rId1"/>
              </a:rPr>
              <a:t>蛋白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143000"/>
          <a:ext cx="8077320" cy="5032440"/>
        </p:xfrm>
        <a:graphic>
          <a:graphicData uri="http://schemas.openxmlformats.org/drawingml/2006/table">
            <a:tbl>
              <a:tblPr/>
              <a:tblGrid>
                <a:gridCol w="1219320"/>
                <a:gridCol w="685800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功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构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组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来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6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4648320"/>
            <a:ext cx="1238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17"/>
          <p:cNvGrpSpPr/>
          <p:nvPr/>
        </p:nvGrpSpPr>
        <p:grpSpPr>
          <a:xfrm>
            <a:off x="1981080" y="4648320"/>
            <a:ext cx="6934320" cy="1523880"/>
            <a:chOff x="1981080" y="4648320"/>
            <a:chExt cx="6934320" cy="1523880"/>
          </a:xfrm>
        </p:grpSpPr>
        <p:grpSp>
          <p:nvGrpSpPr>
            <p:cNvPr id="65" name="Group 115"/>
            <p:cNvGrpSpPr/>
            <p:nvPr/>
          </p:nvGrpSpPr>
          <p:grpSpPr>
            <a:xfrm>
              <a:off x="1981080" y="4648320"/>
              <a:ext cx="3486240" cy="1523880"/>
              <a:chOff x="1981080" y="4648320"/>
              <a:chExt cx="3486240" cy="1523880"/>
            </a:xfrm>
          </p:grpSpPr>
          <p:pic>
            <p:nvPicPr>
              <p:cNvPr id="66" name="Picture 70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1981080" y="4648320"/>
                <a:ext cx="1143000" cy="15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5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4038480" y="4648320"/>
                <a:ext cx="142884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Group 116"/>
            <p:cNvGrpSpPr/>
            <p:nvPr/>
          </p:nvGrpSpPr>
          <p:grpSpPr>
            <a:xfrm>
              <a:off x="5334120" y="4648320"/>
              <a:ext cx="3581280" cy="1523880"/>
              <a:chOff x="5334120" y="4648320"/>
              <a:chExt cx="3581280" cy="1523880"/>
            </a:xfrm>
          </p:grpSpPr>
          <p:pic>
            <p:nvPicPr>
              <p:cNvPr id="69" name="Picture 80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5334120" y="4648320"/>
                <a:ext cx="1238040" cy="152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114"/>
              <p:cNvGrpSpPr/>
              <p:nvPr/>
            </p:nvGrpSpPr>
            <p:grpSpPr>
              <a:xfrm>
                <a:off x="6553080" y="4648320"/>
                <a:ext cx="2362320" cy="1523880"/>
                <a:chOff x="6553080" y="4648320"/>
                <a:chExt cx="2362320" cy="1523880"/>
              </a:xfrm>
            </p:grpSpPr>
            <p:pic>
              <p:nvPicPr>
                <p:cNvPr id="71" name="Picture 82" descr="">
                  <a:hlinkClick r:id="rId10"/>
                </p:cNvPr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848720" y="4648320"/>
                  <a:ext cx="1066680" cy="152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84" descr="">
                  <a:hlinkClick r:id="rId12"/>
                </p:cNvPr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553080" y="4648320"/>
                  <a:ext cx="1305000" cy="152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3" name="Text Box 89"/>
          <p:cNvSpPr/>
          <p:nvPr/>
        </p:nvSpPr>
        <p:spPr>
          <a:xfrm>
            <a:off x="1676520" y="2362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2133720" y="1557360"/>
            <a:ext cx="66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成细胞的基本物质，机体生长及修补受损组织的原料；提供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7"/>
          <p:cNvSpPr/>
          <p:nvPr/>
        </p:nvSpPr>
        <p:spPr>
          <a:xfrm>
            <a:off x="2133720" y="3048120"/>
            <a:ext cx="6248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由多种</a:t>
            </a:r>
            <a:r>
              <a:rPr b="0" lang="zh-CN" sz="2800" spc="-1" strike="noStrike" u="sng">
                <a:solidFill>
                  <a:srgbClr val="0563c1"/>
                </a:solidFill>
                <a:uFillTx/>
                <a:latin typeface="Calibri"/>
                <a:ea typeface="楷体_GB2312"/>
                <a:hlinkClick r:id="rId14"/>
              </a:rPr>
              <a:t>氨基酸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构成的复杂化合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0"/>
          <p:cNvSpPr/>
          <p:nvPr/>
        </p:nvSpPr>
        <p:spPr>
          <a:xfrm>
            <a:off x="2209680" y="4038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等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0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Franklin Gothic Medium"/>
                <a:ea typeface="楷体_GB2312"/>
              </a:rPr>
              <a:t>血红蛋白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26920" y="76500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由蛋白质和血红素构成，在吸入氧气和呼出二氧化碳的过程中起</a:t>
            </a:r>
            <a:r>
              <a:rPr b="1" lang="zh-CN" sz="2800" spc="-1" strike="noStrike">
                <a:solidFill>
                  <a:srgbClr val="0000cc"/>
                </a:solidFill>
                <a:latin typeface="Calibri"/>
              </a:rPr>
              <a:t>载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55640" y="1700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血红蛋白与</a:t>
            </a:r>
            <a:r>
              <a:rPr b="1" lang="en-US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结合能力是氧气的</a:t>
            </a:r>
            <a:r>
              <a:rPr b="1" lang="en-US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200</a:t>
            </a:r>
            <a:r>
              <a:rPr b="1" lang="en-US" sz="2800" spc="-1" strike="noStrike">
                <a:solidFill>
                  <a:srgbClr val="0563c1"/>
                </a:solidFill>
                <a:latin typeface="Calibri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倍，因此结合了</a:t>
            </a:r>
            <a:r>
              <a:rPr b="1" lang="en-US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的血红蛋白就不能再与氧气结合， 从而造成人缺氧而窒息死亡</a:t>
            </a:r>
            <a:r>
              <a:rPr b="1" lang="zh-CN" sz="2800" spc="-1" strike="noStrike">
                <a:solidFill>
                  <a:srgbClr val="0563c1"/>
                </a:solidFill>
                <a:latin typeface="Calibri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300720" y="256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楷体_GB2312"/>
              </a:rPr>
              <a:t>煤气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141720"/>
            <a:ext cx="8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563c1"/>
                </a:solidFill>
                <a:uFillTx/>
                <a:latin typeface="Arial"/>
                <a:ea typeface="楷体_GB2312"/>
                <a:hlinkClick r:id="rId1"/>
              </a:rPr>
              <a:t>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306864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一种重要的蛋白质，是生物催化剂，能催化生物体内的反应，在体液</a:t>
            </a:r>
            <a:r>
              <a:rPr b="1" lang="zh-CN" sz="2800" spc="-1" strike="noStrike">
                <a:solidFill>
                  <a:srgbClr val="0000cc"/>
                </a:solidFill>
                <a:latin typeface="Calibri"/>
              </a:rPr>
              <a:t>接近中性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条件下，</a:t>
            </a:r>
            <a:r>
              <a:rPr b="1" lang="zh-CN" sz="2800" spc="-1" strike="noStrike">
                <a:solidFill>
                  <a:srgbClr val="0000cc"/>
                </a:solidFill>
                <a:latin typeface="Calibri"/>
              </a:rPr>
              <a:t>一种酶只能催化一种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755640" y="4437000"/>
            <a:ext cx="7056360" cy="975240"/>
            <a:chOff x="755640" y="4437000"/>
            <a:chExt cx="7056360" cy="975240"/>
          </a:xfrm>
        </p:grpSpPr>
        <p:sp>
          <p:nvSpPr>
            <p:cNvPr id="84" name="Text Box 6"/>
            <p:cNvSpPr/>
            <p:nvPr/>
          </p:nvSpPr>
          <p:spPr>
            <a:xfrm>
              <a:off x="755640" y="46530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淀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63640" y="4437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唾液淀粉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492360" y="472428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麦芽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787640" y="458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麦芽糖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1763640" y="5013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胰淀粉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6300720" y="472428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1692000" y="4941720"/>
              <a:ext cx="151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787640" y="50133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23932"/>
          <p:cNvSpPr/>
          <p:nvPr/>
        </p:nvSpPr>
        <p:spPr>
          <a:xfrm>
            <a:off x="1763640" y="189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主要机体蛋白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50920" y="5373720"/>
            <a:ext cx="446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使蛋白质变性的因素</a:t>
            </a:r>
            <a:r>
              <a:rPr b="1" lang="en-US" sz="25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5950080"/>
            <a:ext cx="86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强酸  强碱  重金属盐  加热  紫外线 某些有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/>
          <p:cNvSpPr/>
          <p:nvPr/>
        </p:nvSpPr>
        <p:spPr>
          <a:xfrm>
            <a:off x="2340000" y="0"/>
            <a:ext cx="4608360" cy="10526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563c1"/>
                </a:solidFill>
                <a:uFillTx/>
                <a:latin typeface="楷体_GB2312"/>
                <a:ea typeface="楷体_GB2312"/>
                <a:hlinkClick r:id="rId1"/>
              </a:rPr>
              <a:t>糖  类</a:t>
            </a:r>
            <a:r>
              <a:rPr b="1" lang="en-US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主要能源</a:t>
            </a:r>
            <a:r>
              <a:rPr b="1" lang="en-US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295280"/>
          <a:ext cx="7924680" cy="5016600"/>
        </p:xfrm>
        <a:graphic>
          <a:graphicData uri="http://schemas.openxmlformats.org/drawingml/2006/table">
            <a:tbl>
              <a:tblPr/>
              <a:tblGrid>
                <a:gridCol w="1092240"/>
                <a:gridCol w="6832440"/>
              </a:tblGrid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组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食物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56"/>
          <p:cNvSpPr/>
          <p:nvPr/>
        </p:nvSpPr>
        <p:spPr>
          <a:xfrm>
            <a:off x="1981080" y="1219320"/>
            <a:ext cx="66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要的供能物质，提供人类所需总能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7"/>
          <p:cNvSpPr/>
          <p:nvPr/>
        </p:nvSpPr>
        <p:spPr>
          <a:xfrm>
            <a:off x="1905120" y="22096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元素组成的化合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1981080" y="2895480"/>
            <a:ext cx="5759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淀粉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 u="sng">
                <a:solidFill>
                  <a:srgbClr val="0563c1"/>
                </a:solidFill>
                <a:uFillTx/>
                <a:latin typeface="楷体_GB2312"/>
                <a:ea typeface="楷体_GB2312"/>
                <a:hlinkClick r:id="rId2"/>
              </a:rPr>
              <a:t>葡萄糖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蔗糖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1"/>
          <p:cNvGrpSpPr/>
          <p:nvPr/>
        </p:nvGrpSpPr>
        <p:grpSpPr>
          <a:xfrm>
            <a:off x="1979640" y="3860640"/>
            <a:ext cx="6858000" cy="2438280"/>
            <a:chOff x="1979640" y="3860640"/>
            <a:chExt cx="6858000" cy="2438280"/>
          </a:xfrm>
        </p:grpSpPr>
        <p:pic>
          <p:nvPicPr>
            <p:cNvPr id="101" name="Picture 6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79640" y="3936600"/>
              <a:ext cx="12859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313760" y="3860640"/>
              <a:ext cx="1523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8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865840" y="3860640"/>
              <a:ext cx="142884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2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275280" y="3936600"/>
              <a:ext cx="12952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8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494240" y="3936600"/>
              <a:ext cx="142884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54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600" spc="-1" strike="noStrike" u="sng">
                <a:solidFill>
                  <a:srgbClr val="0563c1"/>
                </a:solidFill>
                <a:uFillTx/>
                <a:latin typeface="隶书"/>
                <a:ea typeface="隶书"/>
                <a:hlinkClick r:id="rId1"/>
              </a:rPr>
              <a:t>葡萄糖</a:t>
            </a:r>
            <a:r>
              <a:rPr b="0" lang="zh-CN" sz="4600" spc="-1" strike="noStrike" u="sng">
                <a:solidFill>
                  <a:srgbClr val="0563c1"/>
                </a:solidFill>
                <a:uFillTx/>
                <a:latin typeface="隶书"/>
                <a:ea typeface="隶书"/>
                <a:hlinkClick r:id="rId2"/>
              </a:rPr>
              <a:t>  </a:t>
            </a:r>
            <a:r>
              <a:rPr b="0" lang="en-US" sz="4600" spc="-1" strike="noStrike">
                <a:solidFill>
                  <a:srgbClr val="0000ff"/>
                </a:solidFill>
                <a:latin typeface="隶书"/>
                <a:ea typeface="隶书"/>
              </a:rPr>
              <a:t>C</a:t>
            </a:r>
            <a:r>
              <a:rPr b="0" lang="en-US" sz="46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0" lang="en-US" sz="4600" spc="-1" strike="noStrike">
                <a:solidFill>
                  <a:srgbClr val="0000ff"/>
                </a:solidFill>
                <a:latin typeface="隶书"/>
                <a:ea typeface="隶书"/>
              </a:rPr>
              <a:t>H</a:t>
            </a:r>
            <a:r>
              <a:rPr b="0" lang="en-US" sz="46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12</a:t>
            </a:r>
            <a:r>
              <a:rPr b="0" lang="en-US" sz="46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0" lang="en-US" sz="46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6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611280" y="2924280"/>
            <a:ext cx="7489800" cy="723960"/>
            <a:chOff x="611280" y="2924280"/>
            <a:chExt cx="7489800" cy="723960"/>
          </a:xfrm>
        </p:grpSpPr>
        <p:sp>
          <p:nvSpPr>
            <p:cNvPr id="108" name="Text Box 4"/>
            <p:cNvSpPr/>
            <p:nvPr/>
          </p:nvSpPr>
          <p:spPr>
            <a:xfrm>
              <a:off x="611280" y="3067200"/>
              <a:ext cx="352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2</a:t>
              </a:r>
              <a:r>
                <a:rPr b="0" lang="zh-CN" sz="2800" spc="-1" strike="noStrike">
                  <a:solidFill>
                    <a:srgbClr val="ff0066"/>
                  </a:solidFill>
                  <a:latin typeface="Calibri"/>
                </a:rPr>
                <a:t>、 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C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6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H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12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O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6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 + 6O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2</a:t>
              </a:r>
              <a:r>
                <a:rPr b="0" lang="en-US" sz="28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3924360" y="2924280"/>
              <a:ext cx="864720" cy="431640"/>
              <a:chOff x="3924360" y="2924280"/>
              <a:chExt cx="864720" cy="431640"/>
            </a:xfrm>
          </p:grpSpPr>
          <p:sp>
            <p:nvSpPr>
              <p:cNvPr id="110" name="Line 6"/>
              <p:cNvSpPr/>
              <p:nvPr/>
            </p:nvSpPr>
            <p:spPr>
              <a:xfrm>
                <a:off x="3924360" y="3355920"/>
                <a:ext cx="7920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7"/>
              <p:cNvSpPr/>
              <p:nvPr/>
            </p:nvSpPr>
            <p:spPr>
              <a:xfrm>
                <a:off x="4140000" y="292428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Calibri"/>
                  </a:rPr>
                  <a:t>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4932360" y="3068640"/>
              <a:ext cx="316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6CO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2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 + 6H</a:t>
              </a:r>
              <a:r>
                <a:rPr b="0" lang="en-US" sz="2800" spc="-1" strike="noStrike" baseline="-25000">
                  <a:solidFill>
                    <a:srgbClr val="ff0066"/>
                  </a:solidFill>
                  <a:latin typeface="Calibri"/>
                </a:rPr>
                <a:t>2</a:t>
              </a:r>
              <a:r>
                <a:rPr b="0" lang="en-US" sz="2800" spc="-1" strike="noStrike">
                  <a:solidFill>
                    <a:srgbClr val="ff0066"/>
                  </a:solidFill>
                  <a:latin typeface="Calibri"/>
                </a:rPr>
                <a:t>O</a:t>
              </a:r>
              <a:r>
                <a:rPr b="0" lang="en-US" sz="28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9"/>
          <p:cNvSpPr/>
          <p:nvPr/>
        </p:nvSpPr>
        <p:spPr>
          <a:xfrm>
            <a:off x="826920" y="3933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每克葡萄糖约放出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15.6kJ</a:t>
            </a: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的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39640" y="1982880"/>
            <a:ext cx="9107280" cy="671400"/>
            <a:chOff x="539640" y="1982880"/>
            <a:chExt cx="9107280" cy="671400"/>
          </a:xfrm>
        </p:grpSpPr>
        <p:sp>
          <p:nvSpPr>
            <p:cNvPr id="115" name="Text Box 20"/>
            <p:cNvSpPr/>
            <p:nvPr/>
          </p:nvSpPr>
          <p:spPr>
            <a:xfrm>
              <a:off x="539640" y="212400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、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4066920" y="2421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2"/>
            <p:cNvSpPr/>
            <p:nvPr/>
          </p:nvSpPr>
          <p:spPr>
            <a:xfrm>
              <a:off x="4209840" y="19828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4787640" y="2133720"/>
              <a:ext cx="485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储藏在肝脏和肌肉中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2411280" y="2421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411280" y="1989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血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130200" y="21178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14400" y="1143000"/>
          <a:ext cx="8001000" cy="5272200"/>
        </p:xfrm>
        <a:graphic>
          <a:graphicData uri="http://schemas.openxmlformats.org/drawingml/2006/table">
            <a:tbl>
              <a:tblPr/>
              <a:tblGrid>
                <a:gridCol w="1201680"/>
                <a:gridCol w="67993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组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29"/>
          <p:cNvSpPr/>
          <p:nvPr/>
        </p:nvSpPr>
        <p:spPr>
          <a:xfrm>
            <a:off x="2438280" y="0"/>
            <a:ext cx="4510080" cy="981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563c1"/>
                </a:solidFill>
                <a:uFillTx/>
                <a:latin typeface="楷体_GB2312"/>
                <a:ea typeface="楷体_GB2312"/>
                <a:hlinkClick r:id="rId1"/>
              </a:rPr>
              <a:t>油  脂</a:t>
            </a:r>
            <a:r>
              <a:rPr b="1" lang="en-US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备用能源</a:t>
            </a:r>
            <a:r>
              <a:rPr b="1" lang="en-US" sz="36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411280" y="1125360"/>
            <a:ext cx="6067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重要的供能物质，提供人体所需能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人体储存备用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735720" y="256536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植物油呈液态，称为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动物油脂呈固态，称为脂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5102640" y="370188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生油、豆油、菜籽油、牛油、奶油 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4292640"/>
            <a:ext cx="936720" cy="208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21932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6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24360" y="4292640"/>
            <a:ext cx="159732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08720" y="4292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211640" y="4292640"/>
            <a:ext cx="15238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219320" y="990720"/>
          <a:ext cx="7524720" cy="5743440"/>
        </p:xfrm>
        <a:graphic>
          <a:graphicData uri="http://schemas.openxmlformats.org/drawingml/2006/table">
            <a:tbl>
              <a:tblPr/>
              <a:tblGrid>
                <a:gridCol w="771480"/>
                <a:gridCol w="6753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缺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AutoShape 30"/>
          <p:cNvSpPr/>
          <p:nvPr/>
        </p:nvSpPr>
        <p:spPr>
          <a:xfrm>
            <a:off x="2771640" y="0"/>
            <a:ext cx="2783160" cy="9907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563c1"/>
                </a:solidFill>
                <a:uFillTx/>
                <a:latin typeface="Calibri"/>
                <a:ea typeface="隶书"/>
                <a:hlinkClick r:id="rId1"/>
              </a:rPr>
              <a:t>维生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981080" y="1143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调节新陈代谢、预防疾病、维持身体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2050920" y="2997360"/>
            <a:ext cx="67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缺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盲症  缺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血病    缺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佝偻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2133720" y="1905120"/>
            <a:ext cx="632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生素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9" descr="水果蔬菜"/>
          <p:cNvPicPr/>
          <p:nvPr/>
        </p:nvPicPr>
        <p:blipFill>
          <a:blip r:embed="rId2"/>
          <a:stretch/>
        </p:blipFill>
        <p:spPr>
          <a:xfrm>
            <a:off x="2057400" y="4419720"/>
            <a:ext cx="388620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1"/>
          <p:cNvSpPr/>
          <p:nvPr/>
        </p:nvSpPr>
        <p:spPr>
          <a:xfrm>
            <a:off x="6019920" y="464832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外还有：                              动物肝脏、鸡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类、蛋类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5:52:23Z</dcterms:created>
  <dc:creator/>
  <dc:description/>
  <dc:language>en-US</dc:language>
  <cp:lastModifiedBy>Administrator</cp:lastModifiedBy>
  <dcterms:modified xsi:type="dcterms:W3CDTF">2019-01-08T01:18:13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